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9928080" cy="67960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9928080" cy="67960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1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CF79A-A42E-4F19-945A-748758E19E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el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is the size of the financing ga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are the currently available financing possibilities? Where are they working? Where aren't they work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have been recent developments in financing? To what extent do they fill the ga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ich innovative approaches could help fill the gap?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actoring, crowd fun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 which ways can we bridge the gap through public institutions / approac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0F767-A616-438D-88B3-719FF28A32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el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is the size of the financing ga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are the currently available financing possibilities? Where are they working? Where aren't they work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have been recent developments in financing? To what extent do they fill the ga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ich innovative approaches could help fill the gap?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actoring, crowd fun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 which ways can we bridge the gap through public institutions / approac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D826B-97A6-40D1-9A92-49A9476A65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el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is the size of the financing ga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are the currently available financing possibilities? Where are they working? Where aren't they work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have been recent developments in financing? To what extent do they fill the ga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ich innovative approaches could help fill the gap?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actoring, crowd fun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 which ways can we bridge the gap through public institutions / approac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5A0FB-E0A9-4A25-8041-BCF0483C9CC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el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is the size of the financing ga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are the currently available financing possibilities? Where are they working? Where aren't they work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have been recent developments in financing? To what extent do they fill the ga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ich innovative approaches could help fill the gap?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actoring, crowd fun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 which ways can we bridge the gap through public institutions / approac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19FBA-6FB6-4953-B151-154B6CFFC9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D720F-A39A-47CE-8014-27195F78DE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2EBAA-880E-4A10-8DE7-CE293B1379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1404F-2EA5-4D54-ADF1-A74F8B9A6F8F}" type="slidenum">
              <a:rPr b="0" lang="de-D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6953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2120" y="3916080"/>
            <a:ext cx="6953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62120" y="391608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25040" y="391608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12920" y="137124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463720" y="137124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62120" y="391608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12920" y="391608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463720" y="391608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8640" y="111240"/>
            <a:ext cx="731376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91608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25040" y="391608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916080"/>
            <a:ext cx="6953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6953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2120" y="3916080"/>
            <a:ext cx="6953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391608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25040" y="391608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2920" y="137124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463720" y="137124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62120" y="391608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12920" y="391608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463720" y="391608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8640" y="111240"/>
            <a:ext cx="731376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1608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25040" y="391608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916080"/>
            <a:ext cx="6953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524640"/>
            <a:ext cx="9144000" cy="46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142920" y="6500880"/>
            <a:ext cx="19288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a50021"/>
                </a:solidFill>
                <a:latin typeface="Futura Lt BT"/>
              </a:rPr>
              <a:t>MES 2013 Con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4"/>
          <p:cNvSpPr/>
          <p:nvPr/>
        </p:nvSpPr>
        <p:spPr>
          <a:xfrm>
            <a:off x="8291520" y="276120"/>
            <a:ext cx="514440" cy="5144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5"/>
          <p:cNvSpPr/>
          <p:nvPr/>
        </p:nvSpPr>
        <p:spPr>
          <a:xfrm>
            <a:off x="8153280" y="152280"/>
            <a:ext cx="762120" cy="7621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35812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1295280" y="5105520"/>
            <a:ext cx="7848720" cy="14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7696080" y="152280"/>
            <a:ext cx="1290600" cy="1290600"/>
            <a:chOff x="7696080" y="152280"/>
            <a:chExt cx="1290600" cy="1290600"/>
          </a:xfrm>
        </p:grpSpPr>
        <p:sp>
          <p:nvSpPr>
            <p:cNvPr id="8" name="Oval 9"/>
            <p:cNvSpPr/>
            <p:nvPr/>
          </p:nvSpPr>
          <p:spPr>
            <a:xfrm>
              <a:off x="7907400" y="363600"/>
              <a:ext cx="869760" cy="8697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0"/>
            <p:cNvSpPr/>
            <p:nvPr/>
          </p:nvSpPr>
          <p:spPr>
            <a:xfrm>
              <a:off x="7696080" y="152280"/>
              <a:ext cx="1290600" cy="129060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332000" y="407628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3000"/>
          </a:bodyPr>
          <a:p>
            <a:pPr marL="78840" indent="-788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Futura Lt BT"/>
              </a:rPr>
              <a:t>Click to edit the outline text format</a:t>
            </a:r>
            <a:endParaRPr b="0" lang="en-US" sz="2400" spc="-1" strike="noStrike">
              <a:solidFill>
                <a:srgbClr val="a50021"/>
              </a:solidFill>
              <a:latin typeface="Futura Lt BT"/>
            </a:endParaRPr>
          </a:p>
          <a:p>
            <a:pPr lvl="1" marL="170640" indent="-6552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Futura Lt BT"/>
              </a:rPr>
              <a:t>Second Outline Level</a:t>
            </a:r>
            <a:endParaRPr b="0" lang="en-US" sz="2400" spc="-1" strike="noStrike">
              <a:solidFill>
                <a:srgbClr val="a50021"/>
              </a:solidFill>
              <a:latin typeface="Futura Lt BT"/>
            </a:endParaRPr>
          </a:p>
          <a:p>
            <a:pPr lvl="2" marL="262800" indent="-525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Futura Lt BT"/>
              </a:rPr>
              <a:t>Third Outline Level</a:t>
            </a:r>
            <a:endParaRPr b="0" lang="en-US" sz="2400" spc="-1" strike="noStrike">
              <a:solidFill>
                <a:srgbClr val="a50021"/>
              </a:solidFill>
              <a:latin typeface="Futura Lt BT"/>
            </a:endParaRPr>
          </a:p>
          <a:p>
            <a:pPr lvl="3" marL="367920" indent="-525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Futura Lt BT"/>
              </a:rPr>
              <a:t>Fourth Outline Level</a:t>
            </a:r>
            <a:endParaRPr b="0" lang="en-US" sz="2400" spc="-1" strike="noStrike">
              <a:solidFill>
                <a:srgbClr val="a50021"/>
              </a:solidFill>
              <a:latin typeface="Futura Lt BT"/>
            </a:endParaRPr>
          </a:p>
          <a:p>
            <a:pPr lvl="4" marL="473040" indent="-525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Futura Lt BT"/>
              </a:rPr>
              <a:t>Fifth Outline Level</a:t>
            </a:r>
            <a:endParaRPr b="0" lang="en-US" sz="2400" spc="-1" strike="noStrike">
              <a:solidFill>
                <a:srgbClr val="a50021"/>
              </a:solidFill>
              <a:latin typeface="Futura Lt BT"/>
            </a:endParaRPr>
          </a:p>
          <a:p>
            <a:pPr lvl="5" marL="473040" indent="-525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Futura Lt BT"/>
              </a:rPr>
              <a:t>Sixth Outline Level</a:t>
            </a:r>
            <a:endParaRPr b="0" lang="en-US" sz="2400" spc="-1" strike="noStrike">
              <a:solidFill>
                <a:srgbClr val="a50021"/>
              </a:solidFill>
              <a:latin typeface="Futura Lt BT"/>
            </a:endParaRPr>
          </a:p>
          <a:p>
            <a:pPr lvl="6" marL="473040" indent="-525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Futura Lt BT"/>
              </a:rPr>
              <a:t>Seventh Outline Level</a:t>
            </a:r>
            <a:endParaRPr b="0" lang="en-US" sz="2400" spc="-1" strike="noStrike">
              <a:solidFill>
                <a:srgbClr val="a50021"/>
              </a:solidFill>
              <a:latin typeface="Futura Lt BT"/>
            </a:endParaRPr>
          </a:p>
        </p:txBody>
      </p:sp>
      <p:sp>
        <p:nvSpPr>
          <p:cNvPr id="12" name="Rechteck 14"/>
          <p:cNvSpPr/>
          <p:nvPr/>
        </p:nvSpPr>
        <p:spPr>
          <a:xfrm>
            <a:off x="677880" y="190440"/>
            <a:ext cx="6215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2nd 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utura Lt BT"/>
              </a:rPr>
              <a:t>Micro Perspective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utura Lt BT"/>
              </a:rPr>
              <a:t>Decentralized Energy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Feb. 27 to Mar. 1, 2013 in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1440"/>
            <a:ext cx="91440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"/>
          <p:cNvSpPr/>
          <p:nvPr/>
        </p:nvSpPr>
        <p:spPr>
          <a:xfrm>
            <a:off x="0" y="6524640"/>
            <a:ext cx="9144000" cy="46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/>
          <p:cNvSpPr/>
          <p:nvPr/>
        </p:nvSpPr>
        <p:spPr>
          <a:xfrm>
            <a:off x="8277120" y="281160"/>
            <a:ext cx="514440" cy="5140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8153280" y="152280"/>
            <a:ext cx="762120" cy="7621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43040" indent="-2858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68240" y="6541920"/>
            <a:ext cx="4969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a50021"/>
                </a:solidFill>
                <a:latin typeface="Futura Lt BT"/>
              </a:rPr>
              <a:t>MES 2013 Conference, Feb. 27 to Mar. 1, 2013, in Berlin, Ger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3"/>
          <p:cNvSpPr/>
          <p:nvPr/>
        </p:nvSpPr>
        <p:spPr>
          <a:xfrm>
            <a:off x="7858080" y="6527880"/>
            <a:ext cx="1285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7D6BB5-0512-491B-A4D0-8B28E2D61044}" type="slidenum">
              <a:rPr b="0" lang="de-DE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Futura Lt BT"/>
              </a:rPr>
              <a:t>Exploring Energy SME Financing in Developing and Emerging Countries</a:t>
            </a:r>
            <a:endParaRPr b="1" lang="en-US" sz="28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71920" y="6571800"/>
            <a:ext cx="2000160" cy="2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99000"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a50021"/>
              </a:solidFill>
              <a:latin typeface="Futura Lt B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56840" y="5285880"/>
            <a:ext cx="735804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Funded by</a:t>
            </a:r>
            <a:endParaRPr b="0" lang="en-US" sz="1800" spc="-1" strike="noStrike">
              <a:solidFill>
                <a:srgbClr val="a50021"/>
              </a:solidFill>
              <a:latin typeface="Futura Lt B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071600"/>
            <a:ext cx="66675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12000"/>
              </a:lnSpc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a50021"/>
                </a:solidFill>
                <a:latin typeface="Futura Lt BT"/>
              </a:rPr>
              <a:t>A study realized by </a:t>
            </a:r>
            <a:endParaRPr b="0" lang="en-US" sz="2400" spc="-1" strike="noStrike">
              <a:solidFill>
                <a:srgbClr val="a50021"/>
              </a:solidFill>
              <a:latin typeface="Futura Lt BT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rcRect l="0" t="20003" r="0" b="32010"/>
          <a:stretch/>
        </p:blipFill>
        <p:spPr>
          <a:xfrm>
            <a:off x="4267080" y="4408560"/>
            <a:ext cx="2239920" cy="614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2666880" y="5308560"/>
            <a:ext cx="2149560" cy="571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ME 002 - CI NEW - Logo - original - 01_1 - [J] - RGB Large.jpg"/>
          <p:cNvPicPr/>
          <p:nvPr/>
        </p:nvPicPr>
        <p:blipFill>
          <a:blip r:embed="rId3"/>
          <a:stretch/>
        </p:blipFill>
        <p:spPr>
          <a:xfrm>
            <a:off x="6477120" y="4356000"/>
            <a:ext cx="238752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Challenges along the value chain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87" name="Group 28"/>
          <p:cNvGrpSpPr/>
          <p:nvPr/>
        </p:nvGrpSpPr>
        <p:grpSpPr>
          <a:xfrm>
            <a:off x="152280" y="1155600"/>
            <a:ext cx="6624360" cy="1587600"/>
            <a:chOff x="152280" y="1155600"/>
            <a:chExt cx="6624360" cy="1587600"/>
          </a:xfrm>
        </p:grpSpPr>
        <p:sp>
          <p:nvSpPr>
            <p:cNvPr id="188" name="AutoShape 4"/>
            <p:cNvSpPr/>
            <p:nvPr/>
          </p:nvSpPr>
          <p:spPr>
            <a:xfrm flipH="1">
              <a:off x="5137200" y="2007000"/>
              <a:ext cx="1639080" cy="736200"/>
            </a:xfrm>
            <a:custGeom>
              <a:avLst/>
              <a:gdLst>
                <a:gd name="textAreaLeft" fmla="*/ -360 w 1639080"/>
                <a:gd name="textAreaRight" fmla="*/ 1639080 w 163908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90" y="0"/>
                  </a:lnTo>
                  <a:lnTo>
                    <a:pt x="21600" y="10800"/>
                  </a:lnTo>
                  <a:lnTo>
                    <a:pt x="18990" y="21600"/>
                  </a:lnTo>
                  <a:lnTo>
                    <a:pt x="0" y="21600"/>
                  </a:lnTo>
                  <a:lnTo>
                    <a:pt x="261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4"/>
            <p:cNvSpPr/>
            <p:nvPr/>
          </p:nvSpPr>
          <p:spPr>
            <a:xfrm>
              <a:off x="1491840" y="2007000"/>
              <a:ext cx="3225960" cy="73620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74" y="0"/>
                  </a:lnTo>
                  <a:lnTo>
                    <a:pt x="21600" y="10800"/>
                  </a:lnTo>
                  <a:lnTo>
                    <a:pt x="20274" y="21600"/>
                  </a:lnTo>
                  <a:lnTo>
                    <a:pt x="0" y="21600"/>
                  </a:lnTo>
                  <a:lnTo>
                    <a:pt x="1326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4"/>
            <p:cNvSpPr/>
            <p:nvPr/>
          </p:nvSpPr>
          <p:spPr>
            <a:xfrm>
              <a:off x="1564560" y="2048040"/>
              <a:ext cx="3085560" cy="641520"/>
            </a:xfrm>
            <a:custGeom>
              <a:avLst/>
              <a:gdLst>
                <a:gd name="textAreaLeft" fmla="*/ 0 w 3085560"/>
                <a:gd name="textAreaRight" fmla="*/ 3085920 w 308556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2" y="0"/>
                  </a:lnTo>
                  <a:lnTo>
                    <a:pt x="21600" y="10800"/>
                  </a:lnTo>
                  <a:lnTo>
                    <a:pt x="20392" y="21600"/>
                  </a:lnTo>
                  <a:lnTo>
                    <a:pt x="0" y="21600"/>
                  </a:lnTo>
                  <a:lnTo>
                    <a:pt x="1208" y="108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4"/>
            <p:cNvSpPr/>
            <p:nvPr/>
          </p:nvSpPr>
          <p:spPr>
            <a:xfrm>
              <a:off x="31366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2" y="0"/>
                  </a:lnTo>
                  <a:lnTo>
                    <a:pt x="21600" y="10800"/>
                  </a:lnTo>
                  <a:lnTo>
                    <a:pt x="19572" y="21600"/>
                  </a:lnTo>
                  <a:lnTo>
                    <a:pt x="0" y="21600"/>
                  </a:lnTo>
                  <a:lnTo>
                    <a:pt x="202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c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1522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64" y="0"/>
                  </a:lnTo>
                  <a:lnTo>
                    <a:pt x="21600" y="10800"/>
                  </a:lnTo>
                  <a:lnTo>
                    <a:pt x="1946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ufactur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16444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2" y="0"/>
                  </a:lnTo>
                  <a:lnTo>
                    <a:pt x="21600" y="10800"/>
                  </a:lnTo>
                  <a:lnTo>
                    <a:pt x="19572" y="21600"/>
                  </a:lnTo>
                  <a:lnTo>
                    <a:pt x="0" y="21600"/>
                  </a:lnTo>
                  <a:lnTo>
                    <a:pt x="202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tion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4"/>
            <p:cNvSpPr/>
            <p:nvPr/>
          </p:nvSpPr>
          <p:spPr>
            <a:xfrm flipH="1">
              <a:off x="5195160" y="2116080"/>
              <a:ext cx="1452600" cy="506520"/>
            </a:xfrm>
            <a:custGeom>
              <a:avLst/>
              <a:gdLst>
                <a:gd name="textAreaLeft" fmla="*/ -360 w 1452600"/>
                <a:gd name="textAreaRight" fmla="*/ 1452600 w 14526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4" y="0"/>
                  </a:lnTo>
                  <a:lnTo>
                    <a:pt x="21600" y="10800"/>
                  </a:lnTo>
                  <a:lnTo>
                    <a:pt x="19574" y="21600"/>
                  </a:lnTo>
                  <a:lnTo>
                    <a:pt x="0" y="21600"/>
                  </a:lnTo>
                  <a:lnTo>
                    <a:pt x="2026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crofinance Institu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eft Bracket 11"/>
            <p:cNvSpPr/>
            <p:nvPr/>
          </p:nvSpPr>
          <p:spPr>
            <a:xfrm rot="5400000">
              <a:off x="3039840" y="382320"/>
              <a:ext cx="82440" cy="301320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3013200"/>
                <a:gd name="textAreaBottom" fmla="*/ 3013200 h 301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"/>
                    <a:pt x="0" y="4"/>
                  </a:cubicBezTo>
                  <a:lnTo>
                    <a:pt x="0" y="21596"/>
                  </a:lnTo>
                  <a:cubicBezTo>
                    <a:pt x="0" y="21598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eft Bracket 12"/>
            <p:cNvSpPr/>
            <p:nvPr/>
          </p:nvSpPr>
          <p:spPr>
            <a:xfrm rot="5400000">
              <a:off x="4107600" y="-1071000"/>
              <a:ext cx="82440" cy="515808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5158080"/>
                <a:gd name="textAreaBottom" fmla="*/ 5158080 h 515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"/>
                    <a:pt x="0" y="2"/>
                  </a:cubicBezTo>
                  <a:lnTo>
                    <a:pt x="0" y="21598"/>
                  </a:lnTo>
                  <a:cubicBezTo>
                    <a:pt x="0" y="21599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1"/>
            <p:cNvSpPr/>
            <p:nvPr/>
          </p:nvSpPr>
          <p:spPr>
            <a:xfrm>
              <a:off x="1645560" y="1524240"/>
              <a:ext cx="349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 and service provid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2739240" y="1155600"/>
              <a:ext cx="387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, service provider and MF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5"/>
            <p:cNvSpPr/>
            <p:nvPr/>
          </p:nvSpPr>
          <p:spPr>
            <a:xfrm>
              <a:off x="4648320" y="2114640"/>
              <a:ext cx="527040" cy="5428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d 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Up Arrow 19"/>
          <p:cNvSpPr/>
          <p:nvPr/>
        </p:nvSpPr>
        <p:spPr>
          <a:xfrm>
            <a:off x="279252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1905120" y="3581280"/>
            <a:ext cx="213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upfront costs to build up distribution and service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Up Arrow 24"/>
          <p:cNvSpPr/>
          <p:nvPr/>
        </p:nvSpPr>
        <p:spPr>
          <a:xfrm>
            <a:off x="68580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0" y="358128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ationally-sourced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Up Arrow 30"/>
          <p:cNvSpPr/>
          <p:nvPr/>
        </p:nvSpPr>
        <p:spPr>
          <a:xfrm>
            <a:off x="502920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4343400" y="358128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ed to provide consumer fin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Challenges along the value chain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152280" y="1155600"/>
            <a:ext cx="6624360" cy="1587600"/>
            <a:chOff x="152280" y="1155600"/>
            <a:chExt cx="6624360" cy="1587600"/>
          </a:xfrm>
        </p:grpSpPr>
        <p:sp>
          <p:nvSpPr>
            <p:cNvPr id="208" name="AutoShape 4"/>
            <p:cNvSpPr/>
            <p:nvPr/>
          </p:nvSpPr>
          <p:spPr>
            <a:xfrm flipH="1">
              <a:off x="5137200" y="2007000"/>
              <a:ext cx="1639080" cy="736200"/>
            </a:xfrm>
            <a:custGeom>
              <a:avLst/>
              <a:gdLst>
                <a:gd name="textAreaLeft" fmla="*/ -360 w 1639080"/>
                <a:gd name="textAreaRight" fmla="*/ 1639080 w 163908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90" y="0"/>
                  </a:lnTo>
                  <a:lnTo>
                    <a:pt x="21600" y="10800"/>
                  </a:lnTo>
                  <a:lnTo>
                    <a:pt x="18990" y="21600"/>
                  </a:lnTo>
                  <a:lnTo>
                    <a:pt x="0" y="21600"/>
                  </a:lnTo>
                  <a:lnTo>
                    <a:pt x="261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4"/>
            <p:cNvSpPr/>
            <p:nvPr/>
          </p:nvSpPr>
          <p:spPr>
            <a:xfrm>
              <a:off x="1491840" y="2007000"/>
              <a:ext cx="3225960" cy="73620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74" y="0"/>
                  </a:lnTo>
                  <a:lnTo>
                    <a:pt x="21600" y="10800"/>
                  </a:lnTo>
                  <a:lnTo>
                    <a:pt x="20274" y="21600"/>
                  </a:lnTo>
                  <a:lnTo>
                    <a:pt x="0" y="21600"/>
                  </a:lnTo>
                  <a:lnTo>
                    <a:pt x="1326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4"/>
            <p:cNvSpPr/>
            <p:nvPr/>
          </p:nvSpPr>
          <p:spPr>
            <a:xfrm>
              <a:off x="1564560" y="2048040"/>
              <a:ext cx="3085560" cy="641520"/>
            </a:xfrm>
            <a:custGeom>
              <a:avLst/>
              <a:gdLst>
                <a:gd name="textAreaLeft" fmla="*/ 0 w 3085560"/>
                <a:gd name="textAreaRight" fmla="*/ 3085920 w 308556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2" y="0"/>
                  </a:lnTo>
                  <a:lnTo>
                    <a:pt x="21600" y="10800"/>
                  </a:lnTo>
                  <a:lnTo>
                    <a:pt x="20392" y="21600"/>
                  </a:lnTo>
                  <a:lnTo>
                    <a:pt x="0" y="21600"/>
                  </a:lnTo>
                  <a:lnTo>
                    <a:pt x="1208" y="108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4"/>
            <p:cNvSpPr/>
            <p:nvPr/>
          </p:nvSpPr>
          <p:spPr>
            <a:xfrm>
              <a:off x="31366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2" y="0"/>
                  </a:lnTo>
                  <a:lnTo>
                    <a:pt x="21600" y="10800"/>
                  </a:lnTo>
                  <a:lnTo>
                    <a:pt x="19572" y="21600"/>
                  </a:lnTo>
                  <a:lnTo>
                    <a:pt x="0" y="21600"/>
                  </a:lnTo>
                  <a:lnTo>
                    <a:pt x="202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c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6"/>
            <p:cNvSpPr/>
            <p:nvPr/>
          </p:nvSpPr>
          <p:spPr>
            <a:xfrm>
              <a:off x="1522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64" y="0"/>
                  </a:lnTo>
                  <a:lnTo>
                    <a:pt x="21600" y="10800"/>
                  </a:lnTo>
                  <a:lnTo>
                    <a:pt x="1946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ufactur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7"/>
            <p:cNvSpPr/>
            <p:nvPr/>
          </p:nvSpPr>
          <p:spPr>
            <a:xfrm>
              <a:off x="16444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2" y="0"/>
                  </a:lnTo>
                  <a:lnTo>
                    <a:pt x="21600" y="10800"/>
                  </a:lnTo>
                  <a:lnTo>
                    <a:pt x="19572" y="21600"/>
                  </a:lnTo>
                  <a:lnTo>
                    <a:pt x="0" y="21600"/>
                  </a:lnTo>
                  <a:lnTo>
                    <a:pt x="202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tion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4"/>
            <p:cNvSpPr/>
            <p:nvPr/>
          </p:nvSpPr>
          <p:spPr>
            <a:xfrm flipH="1">
              <a:off x="5195160" y="2116080"/>
              <a:ext cx="1452600" cy="506520"/>
            </a:xfrm>
            <a:custGeom>
              <a:avLst/>
              <a:gdLst>
                <a:gd name="textAreaLeft" fmla="*/ -360 w 1452600"/>
                <a:gd name="textAreaRight" fmla="*/ 1452600 w 14526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4" y="0"/>
                  </a:lnTo>
                  <a:lnTo>
                    <a:pt x="21600" y="10800"/>
                  </a:lnTo>
                  <a:lnTo>
                    <a:pt x="19574" y="21600"/>
                  </a:lnTo>
                  <a:lnTo>
                    <a:pt x="0" y="21600"/>
                  </a:lnTo>
                  <a:lnTo>
                    <a:pt x="2026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crofinance Institu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eft Bracket 11"/>
            <p:cNvSpPr/>
            <p:nvPr/>
          </p:nvSpPr>
          <p:spPr>
            <a:xfrm rot="5400000">
              <a:off x="3039840" y="382320"/>
              <a:ext cx="82440" cy="301320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3013200"/>
                <a:gd name="textAreaBottom" fmla="*/ 3013200 h 301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"/>
                    <a:pt x="0" y="4"/>
                  </a:cubicBezTo>
                  <a:lnTo>
                    <a:pt x="0" y="21596"/>
                  </a:lnTo>
                  <a:cubicBezTo>
                    <a:pt x="0" y="21598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eft Bracket 12"/>
            <p:cNvSpPr/>
            <p:nvPr/>
          </p:nvSpPr>
          <p:spPr>
            <a:xfrm rot="5400000">
              <a:off x="4107600" y="-1071000"/>
              <a:ext cx="82440" cy="515808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5158080"/>
                <a:gd name="textAreaBottom" fmla="*/ 5158080 h 515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"/>
                    <a:pt x="0" y="2"/>
                  </a:cubicBezTo>
                  <a:lnTo>
                    <a:pt x="0" y="21598"/>
                  </a:lnTo>
                  <a:cubicBezTo>
                    <a:pt x="0" y="21599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1645560" y="1524240"/>
              <a:ext cx="349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 and service provid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1"/>
            <p:cNvSpPr/>
            <p:nvPr/>
          </p:nvSpPr>
          <p:spPr>
            <a:xfrm>
              <a:off x="2739240" y="1155600"/>
              <a:ext cx="387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, service provider and MF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5"/>
            <p:cNvSpPr/>
            <p:nvPr/>
          </p:nvSpPr>
          <p:spPr>
            <a:xfrm>
              <a:off x="4648320" y="2114640"/>
              <a:ext cx="527040" cy="5428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d 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Up Arrow 19"/>
          <p:cNvSpPr/>
          <p:nvPr/>
        </p:nvSpPr>
        <p:spPr>
          <a:xfrm>
            <a:off x="279252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1905120" y="3581280"/>
            <a:ext cx="213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upfront costs to build up distribution and service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Up Arrow 24"/>
          <p:cNvSpPr/>
          <p:nvPr/>
        </p:nvSpPr>
        <p:spPr>
          <a:xfrm>
            <a:off x="68580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0" y="358128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ationally-sourced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1938240" y="548640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ck of funder understanding of energy SMEs and their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27"/>
          <p:cNvSpPr/>
          <p:nvPr/>
        </p:nvSpPr>
        <p:spPr>
          <a:xfrm>
            <a:off x="609480" y="5027760"/>
            <a:ext cx="5400720" cy="1440"/>
          </a:xfrm>
          <a:prstGeom prst="line">
            <a:avLst/>
          </a:prstGeom>
          <a:ln w="25560">
            <a:solidFill>
              <a:srgbClr val="a11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Up Arrow 28"/>
          <p:cNvSpPr/>
          <p:nvPr/>
        </p:nvSpPr>
        <p:spPr>
          <a:xfrm>
            <a:off x="1938240" y="4876920"/>
            <a:ext cx="2743200" cy="609480"/>
          </a:xfrm>
          <a:prstGeom prst="upArrow">
            <a:avLst>
              <a:gd name="adj1" fmla="val 50000"/>
              <a:gd name="adj2" fmla="val 62755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Up Arrow 29"/>
          <p:cNvSpPr/>
          <p:nvPr/>
        </p:nvSpPr>
        <p:spPr>
          <a:xfrm>
            <a:off x="502920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4343400" y="358128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ed to provide consumer fin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62120" y="1371240"/>
            <a:ext cx="495288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Lt BT"/>
              </a:rPr>
              <a:t>Scoping and due diligence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Identifying strong entrepreneurs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Obtaining solid data on business cases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Lt BT"/>
              </a:rPr>
              <a:t>Enterprise development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Cost of technical assistance / enterprise development services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Lack of local data for enterprise development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Challenges from the funders' perspective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5867280" y="1295280"/>
            <a:ext cx="2890800" cy="1652760"/>
          </a:xfrm>
          <a:prstGeom prst="wedgeRectCallout">
            <a:avLst>
              <a:gd name="adj1" fmla="val -6310"/>
              <a:gd name="adj2" fmla="val 62782"/>
            </a:avLst>
          </a:prstGeom>
          <a:solidFill>
            <a:srgbClr val="bfbfbf"/>
          </a:solidFill>
          <a:ln w="19080">
            <a:solidFill>
              <a:srgbClr val="bfbfbf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54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’s lots of money but no deal flow. A major challenge is identifying investments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strong entrepreneu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nd building them up to be confident to engage in the business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5867280" y="3421080"/>
            <a:ext cx="2890800" cy="1227240"/>
          </a:xfrm>
          <a:prstGeom prst="wedgeRectCallout">
            <a:avLst>
              <a:gd name="adj1" fmla="val -8388"/>
              <a:gd name="adj2" fmla="val 67606"/>
            </a:avLst>
          </a:prstGeom>
          <a:solidFill>
            <a:srgbClr val="bfbfbf"/>
          </a:solidFill>
          <a:ln w="19080">
            <a:solidFill>
              <a:srgbClr val="bfbfbf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54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in challenge of [name omitted] working with energy SMEs lay in the fact that the SMEs did not provide [us] with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>
            <a:off x="5867280" y="5021280"/>
            <a:ext cx="2890800" cy="1227240"/>
          </a:xfrm>
          <a:prstGeom prst="wedgeRectCallout">
            <a:avLst>
              <a:gd name="adj1" fmla="val -7972"/>
              <a:gd name="adj2" fmla="val 67606"/>
            </a:avLst>
          </a:prstGeom>
          <a:solidFill>
            <a:srgbClr val="bfbfbf"/>
          </a:solidFill>
          <a:ln w="19080">
            <a:solidFill>
              <a:srgbClr val="bfbfbf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54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assistance was the problem - there wa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 much face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e. time spent face-to-face with our customers and their customers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2293200" y="2895480"/>
            <a:ext cx="45151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Futura Lt BT"/>
              </a:rPr>
              <a:t>Thank you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Introduction by Sustainable Business Institute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Report exploring energy SME financing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 Lt BT"/>
              </a:rPr>
              <a:t>Introduction of discussion participants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Panel discussion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Introduction by Sustainable Business Institute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Report exploring energy SME financing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Introduction of discussion participants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 Lt BT"/>
              </a:rPr>
              <a:t>Panel discussion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Access to finance: appraisal of the current situation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Recent developments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Characterization of the financing gap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Innovations for closing the gap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Bridging the gap from a public perspective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61760" y="1371240"/>
            <a:ext cx="739116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Lt BT"/>
              </a:rPr>
              <a:t>What are current funding approaches in practice? What are innovative approaches that are addressing the gap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Lt BT"/>
              </a:rPr>
              <a:t>Where in the value chain can financing be deployed with the highest impact and lowest risk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Lt BT"/>
              </a:rPr>
              <a:t>How do funds effectively assess financing proposals?  How do funders and entrepreneurs perceive the due diligence process? Which are the innovative approaches in the market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Lt BT"/>
              </a:rPr>
              <a:t>What is the impact of business model choice (i.e. cash-based, lending-based or fee-for-service) on financing needs? What are appropriate financing instruments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Discussion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 Lt BT"/>
              </a:rPr>
              <a:t>Introduction by Sustainable Business Institute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Report exploring energy SME financing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Introduction of discussion participants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Panel discussion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Access to finance: appraisal of the current situation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Recent developments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Characterization of the financing gap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Innovations for closing the gap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Bridging the gap from a public perspective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Introduction by Sustainable Business Institute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 Lt BT"/>
              </a:rPr>
              <a:t>Report exploring Energy SME financing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Introduction of discussion participants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Panel discussion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6840" y="1371240"/>
            <a:ext cx="725796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Lt BT"/>
              </a:rPr>
              <a:t>Initial questions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What are barriers for market development of Solar Home Systems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What role do financial services of local companies play and how can they be implemented and refinanced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How can public authorities facilitate market development effectively and efficiently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buClr>
                <a:srgbClr val="000000"/>
              </a:buClr>
              <a:buFont typeface="Futura Lt BT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Questions at the outset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6840" y="1371240"/>
            <a:ext cx="725796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Lt BT"/>
              </a:rPr>
              <a:t>Initial questions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What are barriers for market development of Solar Home Systems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What role do financial services of local companies play and how can they be implemented and refinanced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How can public authorities facilitate market development effectively and efficiently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Lt BT"/>
              </a:rPr>
              <a:t>Research questions for this study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What is specific about energy SMEs, especially in terms of the challenges they face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Can the existence of a financing gap for energy SMEs be confirmed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If so, what are the reasons for this gap and how can the gap be bridged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buClr>
                <a:srgbClr val="000000"/>
              </a:buClr>
              <a:buFont typeface="Futura Lt BT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Questions at the outset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7" name="Isosceles Triangle 4"/>
          <p:cNvSpPr/>
          <p:nvPr/>
        </p:nvSpPr>
        <p:spPr>
          <a:xfrm flipV="1">
            <a:off x="1295280" y="3657600"/>
            <a:ext cx="5334120" cy="272880"/>
          </a:xfrm>
          <a:prstGeom prst="triangle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utura Lt BT"/>
              </a:rPr>
              <a:t>The financing gap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19" name="Group 22"/>
          <p:cNvGrpSpPr/>
          <p:nvPr/>
        </p:nvGrpSpPr>
        <p:grpSpPr>
          <a:xfrm>
            <a:off x="210960" y="1523880"/>
            <a:ext cx="6093000" cy="4349160"/>
            <a:chOff x="210960" y="1523880"/>
            <a:chExt cx="6093000" cy="4349160"/>
          </a:xfrm>
        </p:grpSpPr>
        <p:pic>
          <p:nvPicPr>
            <p:cNvPr id="120" name="table" descr=""/>
            <p:cNvPicPr/>
            <p:nvPr/>
          </p:nvPicPr>
          <p:blipFill>
            <a:blip r:embed="rId1"/>
            <a:stretch/>
          </p:blipFill>
          <p:spPr>
            <a:xfrm>
              <a:off x="840960" y="1595520"/>
              <a:ext cx="5463000" cy="36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Line 18"/>
            <p:cNvSpPr/>
            <p:nvPr/>
          </p:nvSpPr>
          <p:spPr>
            <a:xfrm flipV="1">
              <a:off x="558720" y="1593720"/>
              <a:ext cx="0" cy="359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 rot="16200000">
              <a:off x="-533160" y="3241800"/>
              <a:ext cx="179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2" marL="190440" indent="-187200"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Lt BT"/>
                  <a:ea typeface="ＭＳ Ｐゴシック"/>
                </a:rPr>
                <a:t>Asset back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 rot="16200000">
              <a:off x="397440" y="1671120"/>
              <a:ext cx="5860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190440" indent="-187200"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Lt BT"/>
                  <a:ea typeface="ＭＳ Ｐゴシック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 rot="16200000">
              <a:off x="324000" y="4751280"/>
              <a:ext cx="73260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190440" indent="-187200"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Lt BT"/>
                  <a:ea typeface="ＭＳ Ｐゴシック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5698440" y="5195520"/>
              <a:ext cx="58356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190440" indent="-187200"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Lt BT"/>
                  <a:ea typeface="ＭＳ Ｐゴシック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766440" y="5195520"/>
              <a:ext cx="72936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190440" indent="-187200"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Lt BT"/>
                  <a:ea typeface="ＭＳ Ｐゴシック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2484000" y="5565960"/>
              <a:ext cx="201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2" marL="190440" indent="-187200"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Lt BT"/>
                  <a:ea typeface="ＭＳ Ｐゴシック"/>
                </a:rPr>
                <a:t>Size of financ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296720" y="1655640"/>
              <a:ext cx="1279440" cy="34560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Futura Lt BT"/>
                </a:rPr>
                <a:t>Microfinance Instit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4496040" y="3456000"/>
              <a:ext cx="1684080" cy="1655640"/>
            </a:xfrm>
            <a:prstGeom prst="rect">
              <a:avLst/>
            </a:pr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Futura Lt BT"/>
                </a:rPr>
                <a:t>Private Equity / Venture Ca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2711520" y="1655640"/>
              <a:ext cx="3468600" cy="1655640"/>
            </a:xfrm>
            <a:prstGeom prst="rect">
              <a:avLst/>
            </a:prstGeom>
            <a:gradFill rotWithShape="0">
              <a:gsLst>
                <a:gs pos="0">
                  <a:srgbClr val="404040">
                    <a:alpha val="80000"/>
                  </a:srgbClr>
                </a:gs>
                <a:gs pos="100000">
                  <a:srgbClr val="ffffff">
                    <a:alpha val="90196"/>
                  </a:srgbClr>
                </a:gs>
              </a:gsLst>
              <a:lin ang="846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Futura Lt BT"/>
                </a:rPr>
                <a:t>Traditional ba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2711520" y="3456000"/>
              <a:ext cx="1682640" cy="16556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Lt BT"/>
                </a:rPr>
                <a:t>Financing gap for S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9"/>
            <p:cNvSpPr/>
            <p:nvPr/>
          </p:nvSpPr>
          <p:spPr>
            <a:xfrm>
              <a:off x="2014560" y="5194080"/>
              <a:ext cx="12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a. $5k - $20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20"/>
            <p:cNvSpPr/>
            <p:nvPr/>
          </p:nvSpPr>
          <p:spPr>
            <a:xfrm>
              <a:off x="3744360" y="5194080"/>
              <a:ext cx="141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a. $200k - $2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894240" y="5546520"/>
              <a:ext cx="168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2701080" y="5546520"/>
              <a:ext cx="168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4503960" y="5539680"/>
              <a:ext cx="168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AutoShape 8"/>
          <p:cNvSpPr/>
          <p:nvPr/>
        </p:nvSpPr>
        <p:spPr>
          <a:xfrm>
            <a:off x="6786720" y="2286000"/>
            <a:ext cx="2052360" cy="2293920"/>
          </a:xfrm>
          <a:prstGeom prst="wedgeRectCallout">
            <a:avLst>
              <a:gd name="adj1" fmla="val -6310"/>
              <a:gd name="adj2" fmla="val 62782"/>
            </a:avLst>
          </a:prstGeom>
          <a:solidFill>
            <a:srgbClr val="bfbfbf"/>
          </a:solidFill>
          <a:ln w="19080">
            <a:solidFill>
              <a:srgbClr val="bfbfbf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54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ven after the businesses had already grown into 500k+ USD sales per year, they still did not get financing from local banks ... despite the foreign funds put into local banks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u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Challenges along the value chain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39" name="Group 32"/>
          <p:cNvGrpSpPr/>
          <p:nvPr/>
        </p:nvGrpSpPr>
        <p:grpSpPr>
          <a:xfrm>
            <a:off x="152280" y="1155600"/>
            <a:ext cx="6624360" cy="1587600"/>
            <a:chOff x="152280" y="1155600"/>
            <a:chExt cx="6624360" cy="1587600"/>
          </a:xfrm>
        </p:grpSpPr>
        <p:sp>
          <p:nvSpPr>
            <p:cNvPr id="140" name="AutoShape 4"/>
            <p:cNvSpPr/>
            <p:nvPr/>
          </p:nvSpPr>
          <p:spPr>
            <a:xfrm flipH="1">
              <a:off x="5137200" y="2007000"/>
              <a:ext cx="1639080" cy="736200"/>
            </a:xfrm>
            <a:custGeom>
              <a:avLst/>
              <a:gdLst>
                <a:gd name="textAreaLeft" fmla="*/ -360 w 1639080"/>
                <a:gd name="textAreaRight" fmla="*/ 1639080 w 163908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17" y="0"/>
                  </a:lnTo>
                  <a:lnTo>
                    <a:pt x="21600" y="10800"/>
                  </a:lnTo>
                  <a:lnTo>
                    <a:pt x="18717" y="21600"/>
                  </a:lnTo>
                  <a:lnTo>
                    <a:pt x="0" y="21600"/>
                  </a:lnTo>
                  <a:lnTo>
                    <a:pt x="2883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4"/>
            <p:cNvSpPr/>
            <p:nvPr/>
          </p:nvSpPr>
          <p:spPr>
            <a:xfrm>
              <a:off x="1491840" y="2007000"/>
              <a:ext cx="3225960" cy="73620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135" y="0"/>
                  </a:lnTo>
                  <a:lnTo>
                    <a:pt x="21600" y="10800"/>
                  </a:lnTo>
                  <a:lnTo>
                    <a:pt x="20135" y="21600"/>
                  </a:lnTo>
                  <a:lnTo>
                    <a:pt x="0" y="21600"/>
                  </a:lnTo>
                  <a:lnTo>
                    <a:pt x="1465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1564560" y="2048040"/>
              <a:ext cx="3085560" cy="641520"/>
            </a:xfrm>
            <a:custGeom>
              <a:avLst/>
              <a:gdLst>
                <a:gd name="textAreaLeft" fmla="*/ 0 w 3085560"/>
                <a:gd name="textAreaRight" fmla="*/ 3085920 w 308556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66" y="0"/>
                  </a:lnTo>
                  <a:lnTo>
                    <a:pt x="21600" y="10800"/>
                  </a:lnTo>
                  <a:lnTo>
                    <a:pt x="20266" y="21600"/>
                  </a:lnTo>
                  <a:lnTo>
                    <a:pt x="0" y="21600"/>
                  </a:lnTo>
                  <a:lnTo>
                    <a:pt x="1334" y="108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4"/>
            <p:cNvSpPr/>
            <p:nvPr/>
          </p:nvSpPr>
          <p:spPr>
            <a:xfrm>
              <a:off x="31366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60" y="0"/>
                  </a:lnTo>
                  <a:lnTo>
                    <a:pt x="21600" y="10800"/>
                  </a:lnTo>
                  <a:lnTo>
                    <a:pt x="19360" y="21600"/>
                  </a:lnTo>
                  <a:lnTo>
                    <a:pt x="0" y="21600"/>
                  </a:lnTo>
                  <a:lnTo>
                    <a:pt x="2240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c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6"/>
            <p:cNvSpPr/>
            <p:nvPr/>
          </p:nvSpPr>
          <p:spPr>
            <a:xfrm>
              <a:off x="1522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40" y="0"/>
                  </a:lnTo>
                  <a:lnTo>
                    <a:pt x="21600" y="10800"/>
                  </a:lnTo>
                  <a:lnTo>
                    <a:pt x="1924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ufactur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16444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60" y="0"/>
                  </a:lnTo>
                  <a:lnTo>
                    <a:pt x="21600" y="10800"/>
                  </a:lnTo>
                  <a:lnTo>
                    <a:pt x="19360" y="21600"/>
                  </a:lnTo>
                  <a:lnTo>
                    <a:pt x="0" y="21600"/>
                  </a:lnTo>
                  <a:lnTo>
                    <a:pt x="2240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tion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"/>
            <p:cNvSpPr/>
            <p:nvPr/>
          </p:nvSpPr>
          <p:spPr>
            <a:xfrm flipH="1">
              <a:off x="5195160" y="2116080"/>
              <a:ext cx="1452600" cy="506520"/>
            </a:xfrm>
            <a:custGeom>
              <a:avLst/>
              <a:gdLst>
                <a:gd name="textAreaLeft" fmla="*/ -360 w 1452600"/>
                <a:gd name="textAreaRight" fmla="*/ 1452600 w 14526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62" y="0"/>
                  </a:lnTo>
                  <a:lnTo>
                    <a:pt x="21600" y="10800"/>
                  </a:lnTo>
                  <a:lnTo>
                    <a:pt x="19362" y="21600"/>
                  </a:lnTo>
                  <a:lnTo>
                    <a:pt x="0" y="21600"/>
                  </a:lnTo>
                  <a:lnTo>
                    <a:pt x="223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crofinance Institu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eft Bracket 11"/>
            <p:cNvSpPr/>
            <p:nvPr/>
          </p:nvSpPr>
          <p:spPr>
            <a:xfrm rot="5400000">
              <a:off x="3039840" y="382320"/>
              <a:ext cx="82440" cy="301320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3013200"/>
                <a:gd name="textAreaBottom" fmla="*/ 3013200 h 301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"/>
                    <a:pt x="0" y="5"/>
                  </a:cubicBezTo>
                  <a:lnTo>
                    <a:pt x="0" y="21595"/>
                  </a:lnTo>
                  <a:cubicBezTo>
                    <a:pt x="0" y="21598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eft Bracket 12"/>
            <p:cNvSpPr/>
            <p:nvPr/>
          </p:nvSpPr>
          <p:spPr>
            <a:xfrm rot="5400000">
              <a:off x="4107600" y="-1071000"/>
              <a:ext cx="82440" cy="515808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5158080"/>
                <a:gd name="textAreaBottom" fmla="*/ 5158080 h 515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"/>
                    <a:pt x="0" y="3"/>
                  </a:cubicBezTo>
                  <a:lnTo>
                    <a:pt x="0" y="21597"/>
                  </a:lnTo>
                  <a:cubicBezTo>
                    <a:pt x="0" y="21599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1"/>
            <p:cNvSpPr/>
            <p:nvPr/>
          </p:nvSpPr>
          <p:spPr>
            <a:xfrm>
              <a:off x="1645560" y="1524240"/>
              <a:ext cx="349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 and service provid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1"/>
            <p:cNvSpPr/>
            <p:nvPr/>
          </p:nvSpPr>
          <p:spPr>
            <a:xfrm>
              <a:off x="2739240" y="1155600"/>
              <a:ext cx="387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, service provider and MF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4651200" y="2114640"/>
              <a:ext cx="525240" cy="5428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d 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Challenges along the value chain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53" name="Group 26"/>
          <p:cNvGrpSpPr/>
          <p:nvPr/>
        </p:nvGrpSpPr>
        <p:grpSpPr>
          <a:xfrm>
            <a:off x="152280" y="1155600"/>
            <a:ext cx="6624360" cy="1587600"/>
            <a:chOff x="152280" y="1155600"/>
            <a:chExt cx="6624360" cy="1587600"/>
          </a:xfrm>
        </p:grpSpPr>
        <p:sp>
          <p:nvSpPr>
            <p:cNvPr id="154" name="AutoShape 4"/>
            <p:cNvSpPr/>
            <p:nvPr/>
          </p:nvSpPr>
          <p:spPr>
            <a:xfrm flipH="1">
              <a:off x="5137200" y="2007000"/>
              <a:ext cx="1639080" cy="736200"/>
            </a:xfrm>
            <a:custGeom>
              <a:avLst/>
              <a:gdLst>
                <a:gd name="textAreaLeft" fmla="*/ -360 w 1639080"/>
                <a:gd name="textAreaRight" fmla="*/ 1639080 w 163908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90" y="0"/>
                  </a:lnTo>
                  <a:lnTo>
                    <a:pt x="21600" y="10800"/>
                  </a:lnTo>
                  <a:lnTo>
                    <a:pt x="18990" y="21600"/>
                  </a:lnTo>
                  <a:lnTo>
                    <a:pt x="0" y="21600"/>
                  </a:lnTo>
                  <a:lnTo>
                    <a:pt x="261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4"/>
            <p:cNvSpPr/>
            <p:nvPr/>
          </p:nvSpPr>
          <p:spPr>
            <a:xfrm>
              <a:off x="1491840" y="2007000"/>
              <a:ext cx="3225960" cy="73620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74" y="0"/>
                  </a:lnTo>
                  <a:lnTo>
                    <a:pt x="21600" y="10800"/>
                  </a:lnTo>
                  <a:lnTo>
                    <a:pt x="20274" y="21600"/>
                  </a:lnTo>
                  <a:lnTo>
                    <a:pt x="0" y="21600"/>
                  </a:lnTo>
                  <a:lnTo>
                    <a:pt x="1326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"/>
            <p:cNvSpPr/>
            <p:nvPr/>
          </p:nvSpPr>
          <p:spPr>
            <a:xfrm>
              <a:off x="1564560" y="2048040"/>
              <a:ext cx="3085560" cy="641520"/>
            </a:xfrm>
            <a:custGeom>
              <a:avLst/>
              <a:gdLst>
                <a:gd name="textAreaLeft" fmla="*/ 0 w 3085560"/>
                <a:gd name="textAreaRight" fmla="*/ 3085920 w 308556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2" y="0"/>
                  </a:lnTo>
                  <a:lnTo>
                    <a:pt x="21600" y="10800"/>
                  </a:lnTo>
                  <a:lnTo>
                    <a:pt x="20392" y="21600"/>
                  </a:lnTo>
                  <a:lnTo>
                    <a:pt x="0" y="21600"/>
                  </a:lnTo>
                  <a:lnTo>
                    <a:pt x="1208" y="108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4"/>
            <p:cNvSpPr/>
            <p:nvPr/>
          </p:nvSpPr>
          <p:spPr>
            <a:xfrm>
              <a:off x="31366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2" y="0"/>
                  </a:lnTo>
                  <a:lnTo>
                    <a:pt x="21600" y="10800"/>
                  </a:lnTo>
                  <a:lnTo>
                    <a:pt x="19572" y="21600"/>
                  </a:lnTo>
                  <a:lnTo>
                    <a:pt x="0" y="21600"/>
                  </a:lnTo>
                  <a:lnTo>
                    <a:pt x="202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c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6"/>
            <p:cNvSpPr/>
            <p:nvPr/>
          </p:nvSpPr>
          <p:spPr>
            <a:xfrm>
              <a:off x="1522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64" y="0"/>
                  </a:lnTo>
                  <a:lnTo>
                    <a:pt x="21600" y="10800"/>
                  </a:lnTo>
                  <a:lnTo>
                    <a:pt x="1946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ufactur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7"/>
            <p:cNvSpPr/>
            <p:nvPr/>
          </p:nvSpPr>
          <p:spPr>
            <a:xfrm>
              <a:off x="16444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2" y="0"/>
                  </a:lnTo>
                  <a:lnTo>
                    <a:pt x="21600" y="10800"/>
                  </a:lnTo>
                  <a:lnTo>
                    <a:pt x="19572" y="21600"/>
                  </a:lnTo>
                  <a:lnTo>
                    <a:pt x="0" y="21600"/>
                  </a:lnTo>
                  <a:lnTo>
                    <a:pt x="202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tion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4"/>
            <p:cNvSpPr/>
            <p:nvPr/>
          </p:nvSpPr>
          <p:spPr>
            <a:xfrm flipH="1">
              <a:off x="5195160" y="2116080"/>
              <a:ext cx="1452600" cy="506520"/>
            </a:xfrm>
            <a:custGeom>
              <a:avLst/>
              <a:gdLst>
                <a:gd name="textAreaLeft" fmla="*/ -360 w 1452600"/>
                <a:gd name="textAreaRight" fmla="*/ 1452600 w 14526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4" y="0"/>
                  </a:lnTo>
                  <a:lnTo>
                    <a:pt x="21600" y="10800"/>
                  </a:lnTo>
                  <a:lnTo>
                    <a:pt x="19574" y="21600"/>
                  </a:lnTo>
                  <a:lnTo>
                    <a:pt x="0" y="21600"/>
                  </a:lnTo>
                  <a:lnTo>
                    <a:pt x="2026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crofinance Institu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eft Bracket 11"/>
            <p:cNvSpPr/>
            <p:nvPr/>
          </p:nvSpPr>
          <p:spPr>
            <a:xfrm rot="5400000">
              <a:off x="3039840" y="382320"/>
              <a:ext cx="82440" cy="301320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3013200"/>
                <a:gd name="textAreaBottom" fmla="*/ 3013200 h 301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"/>
                    <a:pt x="0" y="4"/>
                  </a:cubicBezTo>
                  <a:lnTo>
                    <a:pt x="0" y="21596"/>
                  </a:lnTo>
                  <a:cubicBezTo>
                    <a:pt x="0" y="21598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eft Bracket 12"/>
            <p:cNvSpPr/>
            <p:nvPr/>
          </p:nvSpPr>
          <p:spPr>
            <a:xfrm rot="5400000">
              <a:off x="4107600" y="-1071000"/>
              <a:ext cx="82440" cy="515808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5158080"/>
                <a:gd name="textAreaBottom" fmla="*/ 5158080 h 515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"/>
                    <a:pt x="0" y="2"/>
                  </a:cubicBezTo>
                  <a:lnTo>
                    <a:pt x="0" y="21598"/>
                  </a:lnTo>
                  <a:cubicBezTo>
                    <a:pt x="0" y="21599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1"/>
            <p:cNvSpPr/>
            <p:nvPr/>
          </p:nvSpPr>
          <p:spPr>
            <a:xfrm>
              <a:off x="1645560" y="1524240"/>
              <a:ext cx="349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 and service provid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1"/>
            <p:cNvSpPr/>
            <p:nvPr/>
          </p:nvSpPr>
          <p:spPr>
            <a:xfrm>
              <a:off x="2739240" y="1155600"/>
              <a:ext cx="387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, service provider and MF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5"/>
            <p:cNvSpPr/>
            <p:nvPr/>
          </p:nvSpPr>
          <p:spPr>
            <a:xfrm>
              <a:off x="4648320" y="2114640"/>
              <a:ext cx="527040" cy="5428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d 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Up Arrow 27"/>
          <p:cNvSpPr/>
          <p:nvPr/>
        </p:nvSpPr>
        <p:spPr>
          <a:xfrm>
            <a:off x="279252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1905120" y="3581280"/>
            <a:ext cx="213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upfront costs to build up distribution and service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Challenges along the value chain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69" name="Group 26"/>
          <p:cNvGrpSpPr/>
          <p:nvPr/>
        </p:nvGrpSpPr>
        <p:grpSpPr>
          <a:xfrm>
            <a:off x="152280" y="1155600"/>
            <a:ext cx="6624360" cy="1587600"/>
            <a:chOff x="152280" y="1155600"/>
            <a:chExt cx="6624360" cy="1587600"/>
          </a:xfrm>
        </p:grpSpPr>
        <p:sp>
          <p:nvSpPr>
            <p:cNvPr id="170" name="AutoShape 4"/>
            <p:cNvSpPr/>
            <p:nvPr/>
          </p:nvSpPr>
          <p:spPr>
            <a:xfrm flipH="1">
              <a:off x="5137200" y="2007000"/>
              <a:ext cx="1639080" cy="736200"/>
            </a:xfrm>
            <a:custGeom>
              <a:avLst/>
              <a:gdLst>
                <a:gd name="textAreaLeft" fmla="*/ -360 w 1639080"/>
                <a:gd name="textAreaRight" fmla="*/ 1639080 w 163908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90" y="0"/>
                  </a:lnTo>
                  <a:lnTo>
                    <a:pt x="21600" y="10800"/>
                  </a:lnTo>
                  <a:lnTo>
                    <a:pt x="18990" y="21600"/>
                  </a:lnTo>
                  <a:lnTo>
                    <a:pt x="0" y="21600"/>
                  </a:lnTo>
                  <a:lnTo>
                    <a:pt x="261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1491840" y="2007000"/>
              <a:ext cx="3225960" cy="73620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74" y="0"/>
                  </a:lnTo>
                  <a:lnTo>
                    <a:pt x="21600" y="10800"/>
                  </a:lnTo>
                  <a:lnTo>
                    <a:pt x="20274" y="21600"/>
                  </a:lnTo>
                  <a:lnTo>
                    <a:pt x="0" y="21600"/>
                  </a:lnTo>
                  <a:lnTo>
                    <a:pt x="1326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4"/>
            <p:cNvSpPr/>
            <p:nvPr/>
          </p:nvSpPr>
          <p:spPr>
            <a:xfrm>
              <a:off x="1564560" y="2048040"/>
              <a:ext cx="3085560" cy="641520"/>
            </a:xfrm>
            <a:custGeom>
              <a:avLst/>
              <a:gdLst>
                <a:gd name="textAreaLeft" fmla="*/ 0 w 3085560"/>
                <a:gd name="textAreaRight" fmla="*/ 3085920 w 308556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2" y="0"/>
                  </a:lnTo>
                  <a:lnTo>
                    <a:pt x="21600" y="10800"/>
                  </a:lnTo>
                  <a:lnTo>
                    <a:pt x="20392" y="21600"/>
                  </a:lnTo>
                  <a:lnTo>
                    <a:pt x="0" y="21600"/>
                  </a:lnTo>
                  <a:lnTo>
                    <a:pt x="1208" y="108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4"/>
            <p:cNvSpPr/>
            <p:nvPr/>
          </p:nvSpPr>
          <p:spPr>
            <a:xfrm>
              <a:off x="31366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2" y="0"/>
                  </a:lnTo>
                  <a:lnTo>
                    <a:pt x="21600" y="10800"/>
                  </a:lnTo>
                  <a:lnTo>
                    <a:pt x="19572" y="21600"/>
                  </a:lnTo>
                  <a:lnTo>
                    <a:pt x="0" y="21600"/>
                  </a:lnTo>
                  <a:lnTo>
                    <a:pt x="202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c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522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64" y="0"/>
                  </a:lnTo>
                  <a:lnTo>
                    <a:pt x="21600" y="10800"/>
                  </a:lnTo>
                  <a:lnTo>
                    <a:pt x="1946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ufactur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7"/>
            <p:cNvSpPr/>
            <p:nvPr/>
          </p:nvSpPr>
          <p:spPr>
            <a:xfrm>
              <a:off x="16444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2" y="0"/>
                  </a:lnTo>
                  <a:lnTo>
                    <a:pt x="21600" y="10800"/>
                  </a:lnTo>
                  <a:lnTo>
                    <a:pt x="19572" y="21600"/>
                  </a:lnTo>
                  <a:lnTo>
                    <a:pt x="0" y="21600"/>
                  </a:lnTo>
                  <a:lnTo>
                    <a:pt x="202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tion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 flipH="1">
              <a:off x="5195160" y="2116080"/>
              <a:ext cx="1452600" cy="506520"/>
            </a:xfrm>
            <a:custGeom>
              <a:avLst/>
              <a:gdLst>
                <a:gd name="textAreaLeft" fmla="*/ -360 w 1452600"/>
                <a:gd name="textAreaRight" fmla="*/ 1452600 w 14526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4" y="0"/>
                  </a:lnTo>
                  <a:lnTo>
                    <a:pt x="21600" y="10800"/>
                  </a:lnTo>
                  <a:lnTo>
                    <a:pt x="19574" y="21600"/>
                  </a:lnTo>
                  <a:lnTo>
                    <a:pt x="0" y="21600"/>
                  </a:lnTo>
                  <a:lnTo>
                    <a:pt x="2026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crofinance Institu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eft Bracket 11"/>
            <p:cNvSpPr/>
            <p:nvPr/>
          </p:nvSpPr>
          <p:spPr>
            <a:xfrm rot="5400000">
              <a:off x="3039840" y="382320"/>
              <a:ext cx="82440" cy="301320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3013200"/>
                <a:gd name="textAreaBottom" fmla="*/ 3013200 h 301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"/>
                    <a:pt x="0" y="4"/>
                  </a:cubicBezTo>
                  <a:lnTo>
                    <a:pt x="0" y="21596"/>
                  </a:lnTo>
                  <a:cubicBezTo>
                    <a:pt x="0" y="21598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eft Bracket 12"/>
            <p:cNvSpPr/>
            <p:nvPr/>
          </p:nvSpPr>
          <p:spPr>
            <a:xfrm rot="5400000">
              <a:off x="4107600" y="-1071000"/>
              <a:ext cx="82440" cy="515808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5158080"/>
                <a:gd name="textAreaBottom" fmla="*/ 5158080 h 515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"/>
                    <a:pt x="0" y="2"/>
                  </a:cubicBezTo>
                  <a:lnTo>
                    <a:pt x="0" y="21598"/>
                  </a:lnTo>
                  <a:cubicBezTo>
                    <a:pt x="0" y="21599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1"/>
            <p:cNvSpPr/>
            <p:nvPr/>
          </p:nvSpPr>
          <p:spPr>
            <a:xfrm>
              <a:off x="1645560" y="1524240"/>
              <a:ext cx="349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 and service provid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1"/>
            <p:cNvSpPr/>
            <p:nvPr/>
          </p:nvSpPr>
          <p:spPr>
            <a:xfrm>
              <a:off x="2739240" y="1155600"/>
              <a:ext cx="387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, service provider and MF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5"/>
            <p:cNvSpPr/>
            <p:nvPr/>
          </p:nvSpPr>
          <p:spPr>
            <a:xfrm>
              <a:off x="4649760" y="2114640"/>
              <a:ext cx="527040" cy="5428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d 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Up Arrow 27"/>
          <p:cNvSpPr/>
          <p:nvPr/>
        </p:nvSpPr>
        <p:spPr>
          <a:xfrm>
            <a:off x="279252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1905120" y="3581280"/>
            <a:ext cx="213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upfront costs to build up distribution and service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Up Arrow 29"/>
          <p:cNvSpPr/>
          <p:nvPr/>
        </p:nvSpPr>
        <p:spPr>
          <a:xfrm>
            <a:off x="502920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4343400" y="358128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ed to provide consumer fin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3:47:49Z</dcterms:created>
  <dc:creator/>
  <dc:description/>
  <dc:language>en-US</dc:language>
  <cp:lastModifiedBy>Niko Spiegel</cp:lastModifiedBy>
  <dcterms:modified xsi:type="dcterms:W3CDTF">2013-03-01T13:56:16Z</dcterms:modified>
  <cp:revision>87</cp:revision>
  <dc:subject/>
  <dc:title>Das Promotionskolleg Mikroenergie-Systeme </dc:title>
</cp:coreProperties>
</file>